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5EC-FD48-477B-82A8-288B9280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8D8-7A5E-495C-8031-5E60FCAB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5E6-DEB6-4EA3-83E1-44DADD65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A967-2D06-44EB-B422-4FB1F9F2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3399-B56B-4592-A346-74C4CE1E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5B6E-B633-46B5-8D87-362BC359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29AB-8E7C-4F7D-89E8-89A9E976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AD9A-A3C6-4F03-8C77-B6C8E98E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1F46-32A9-4F9F-9017-2697463A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3A18-4420-4332-A9E5-1EAFB69F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EE94-243F-4BAE-AE1D-43DC495D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2DC-5715-4A8A-B639-4DD7E90A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9D27-D7C8-4443-BF6C-D580A682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A1EF-643F-4E58-AB4A-AD47733F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AF4E-6652-444E-85ED-45E30EF3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0ECC-2BE3-47E5-B901-84E38AC7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5884-D2CE-49C8-81E3-3E21DA6F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BE29-7254-473B-9A3F-E0B0BEF1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35E7-ADF3-4CDD-AAD4-BAB363D2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137-31A3-4516-A257-11215048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276-F875-4112-B5CF-F8FAF2F0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DE1-2AB0-4F6A-8551-B693B864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69F-E1EC-4C62-B93A-EEB5F19B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455-539C-4A5B-8E72-5F17A134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E7B4-81EC-4AD7-B574-D9791F19932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CBB0-F3ED-45C0-B343-2FC1F48CAFD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1484280"/>
            <a:ext cx="91440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Специальные платежи и налог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с недропользовател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Общие положения о роялт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оялти уплачивается недропользователем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в отдельности по каждому виду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добываемых на территории Республики Казахстан полезных ископаемых, независимо от того, были ли они реализованы (отгружены) покупателям или использованы на собственные нужды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eorgia"/>
              </a:rPr>
              <a:t>Плательщиками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роялти являются недропользователи, осуществляющие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добычу полезных ископаемых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, включая извлечение полезных ископаемых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из техногенных минеральных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образований, независимо от того, имела ли место их реализация в отчетном период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азмер роялти определяется исходя из объекта налогообложения, базы исчисления и став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роки уплаты : роялти по всем видам полезных ископаемых уплачивается не позднее </a:t>
            </a:r>
            <a:r>
              <a:rPr b="0" lang="ru-RU" sz="1800" spc="-1" strike="noStrike">
                <a:solidFill>
                  <a:srgbClr val="ff6600"/>
                </a:solidFill>
                <a:latin typeface="Georgia"/>
              </a:rPr>
              <a:t>20 числа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месяца, следующего за налоговым периодом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eorgia"/>
              </a:rPr>
              <a:t>Налоговым периодом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по уплате роялти является календарный </a:t>
            </a:r>
            <a:r>
              <a:rPr b="0" lang="ru-RU" sz="1800" spc="-1" strike="noStrike">
                <a:solidFill>
                  <a:srgbClr val="ff6600"/>
                </a:solidFill>
                <a:latin typeface="Georgia"/>
              </a:rPr>
              <a:t>месяц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Декларация: не позднее 20-числа месяца, следующего за налоговым период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Роялти не уплачивается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физическими лицами по </a:t>
            </a:r>
            <a:r>
              <a:rPr b="0" lang="ru-RU" sz="2000" spc="-1" strike="noStrike">
                <a:solidFill>
                  <a:srgbClr val="ff6699"/>
                </a:solidFill>
                <a:latin typeface="Georgia"/>
              </a:rPr>
              <a:t>подземным вода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, добываемым на земельных участках, принадлежащих им на праве частной собственности, при условии, что данные воды не реализуются на сторону и не используются на производство и технологические нужды при осуществлении предпринимательской деятельност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государственными учреждениями, осуществляющими добычу подземных вод для собственных хозяйственных нужд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недропользователями при обратной закачке попутно добытых подземных вод для поддержания пластового давле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Ставки роялти по нефти, включая газовый конденса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до 500000 тонн - 2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500000 до 1000000 тонн - 2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1000000 до 1500000 тонн - 3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1500000 до 2000000 тонн - 3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2000000 до 2500000 тонн - 4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2500000 до 3500000 тонн - 4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3500000 до 4500000 тонн - 5 процентов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от 4500000 до 5000000 тонн - 5,5 процен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свыше 5000000 тонн - 6 процент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560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пределение стоимости полезных ископаем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В целях исчисления роялти стоимость добытых нефти, общераспространенных полезных ископаемых, подземных вод и полезных ископаемых, за исключением золота, серебра и платины, определяется исходя из средневзвешенной цены реализации за налоговый период первого товарного продукта, полученного из добытых полезных ископаемых, без учета косвенных налогов и сумм фактических расходов на их транспортировку до пункта продажи (отгрузки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Стоимость добытых недропользователем за налоговый период золота, серебра и платины исчисляется исходя из средних цен этих металлов, сложившихся за налоговый период на Международной (Лондонской) бирж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В случае отсутствия реализации первого товарного продукта стоимость добытых нефти, подземных вод и полезных ископаемых, за исключением золота, серебра, платины и общераспространенных полезных ископаемых, определяется исходя из средневзвешенной цены реализации первого товарного продукта последнего налогового периода, в котором имела место такая реализац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690480"/>
          <a:ext cx="9144000" cy="6167520"/>
        </p:xfrm>
        <a:graphic>
          <a:graphicData uri="http://schemas.openxmlformats.org/drawingml/2006/table">
            <a:tbl>
              <a:tblPr/>
              <a:tblGrid>
                <a:gridCol w="2987640"/>
                <a:gridCol w="4897440"/>
                <a:gridCol w="12589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аименование полезного ископаемог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тавка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оялти в 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ерудное сырье для металлург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4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Формовочные пески, глиноземосодержащие пород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полевой шпат, пегматит), известняки, доломиты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вестняково - доломитовые пород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вестняки для пищевой промышленност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очее нерудное сырь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гнеупорные глины, каолин, вермикули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оль поварен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1295280" cy="1155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1297080" cy="1206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258920" y="3284640"/>
            <a:ext cx="1225440" cy="1139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79280" y="4788000"/>
            <a:ext cx="1368360" cy="1220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1692360" y="5516640"/>
            <a:ext cx="1008000" cy="942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85" name=""/>
          <p:cNvSpPr/>
          <p:nvPr/>
        </p:nvSpPr>
        <p:spPr>
          <a:xfrm>
            <a:off x="1332000" y="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тавки роялти по общераспространенным полезным ископаемым и подземным вод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476360"/>
                <a:gridCol w="6912000"/>
                <a:gridCol w="755640"/>
              </a:tblGrid>
              <a:tr h="16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естные строительные материал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4,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улканические пористые породы, вулканически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одосодержащие стекла и стекловидные пород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перлит, обсидиан), галька и гравий, гравийно -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есчаная смесь, гипс, гипсовый камень, ангидрит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гажа, глина и глинистые породы (тугоплавкие 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егкоплавкие глины, суглинки, аргиллиты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алевролиты, глинистые сланцы), мел, мергель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ергельно - меловые породы, кремнистые пород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трепел, опоки, диатомит), кварцево -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левошпатные породы, камень бутовый, осадочные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верженные и метаморфические породы (гранит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базальт, диабаз, мрамор), песок (строительный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варцевый, кварцево - полевошпатный), кром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формовочного, песчаник, природные пигменты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акушечни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4,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дземные вод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511280" cy="1320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1440000" cy="1312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1079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6740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бщие положения о налоге н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</a:rPr>
              <a:t>сверхприбы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Плательщикам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алога на сверхприбыль являются недропользователи, за исключением осуществляющих деятельность по контрактам о разделе продукции, на добычу общераспространенных полезных ископаемых и подземных вод, а также строительство и эксплуатацию подземных сооружений, не связанных с разведкой и добыч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Объектом обложения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алогом на сверхприбыль является часть чистого дохода недропользователя по каждому отдельному контракту за налоговый период, в котором отношение накопленных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доходов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к накопленным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расхода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выше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1,2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Налоговой базой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является часть чистого дохода недропользователя по каждому отдельному контракту за налоговый период, превышающая 20 процентов от суммы вычетов, предусмотренных статьями Налогового Кодекса Р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7400" indent="-167400" algn="just">
              <a:lnSpc>
                <a:spcPct val="115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Налог на сверхприбыль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уплачивается не позднее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15 апреля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года, следующего за налоговым периодо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468360" y="1268280"/>
          <a:ext cx="8280360" cy="5152680"/>
        </p:xfrm>
        <a:graphic>
          <a:graphicData uri="http://schemas.openxmlformats.org/drawingml/2006/table">
            <a:tbl>
              <a:tblPr/>
              <a:tblGrid>
                <a:gridCol w="5720040"/>
                <a:gridCol w="2560320"/>
              </a:tblGrid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олученное значение отношения накопленных доходов к накопленным расходам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Ставк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менее 1,2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2 до 1,3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3 до 1,4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4 до 1,5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5 до 1,6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1,6 до 1,7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свыше 1,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2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3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4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50 процентов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60 процент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Georgia"/>
              </a:rPr>
              <a:t>Ставки налога на сверхприбыль</a:t>
            </a:r>
            <a:r>
              <a:rPr b="0" lang="en-US" sz="4400" spc="-1" strike="noStrike">
                <a:solidFill>
                  <a:srgbClr val="ccecff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Доля Республики Казахстан по разделу продук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Налоговым периодом по платежам доли Республики Казахстан по разделу продукции является календарный </a:t>
            </a:r>
            <a:r>
              <a:rPr b="0" lang="en-US" sz="2400" spc="-1" strike="noStrike">
                <a:solidFill>
                  <a:srgbClr val="ff6600"/>
                </a:solidFill>
                <a:latin typeface="Georgia"/>
              </a:rPr>
              <a:t>месяц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Доля Республики Казахстан по разделу продукции уплачивается не позднее </a:t>
            </a:r>
            <a:r>
              <a:rPr b="0" lang="en-US" sz="2400" spc="-1" strike="noStrike">
                <a:solidFill>
                  <a:srgbClr val="ff6600"/>
                </a:solidFill>
                <a:latin typeface="Georgia"/>
              </a:rPr>
              <a:t>20 числа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месяца, следующего за налоговым периодо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64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онтракт о разделе продукции -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договор, в соответствии с которым Республика Казахстан предоставляет недропользователю на платной основе на определенный срок право на проведение операций по недропользованию, включая нефтяные операции на контрактной территории, и ведение связанных с этим работ за его счет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Контракт о разделе продукции должен содержать следующие основные условия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общего объема добытой продукции, прошедшей пункт замера, и ее стоимост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части добытой продукции, которая передается в собственность недропользователю для возмещения затрат на выполнение работ по контракту (компенсационная продукция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части добытой продукции, подлежащей разделу после вычета компенсационной продукции (прибыльной продукции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оли раздела (процента) между Республикой Казахстан и недропользователем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пределение доли Республики Казахстан в прибыльной продукции в порядке, установленном Налоговым Кодексом Р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484280"/>
            <a:ext cx="914400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 л а 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Характеристика специальных налоговых режимов для недропользова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латежи и налоги с недропользователей: бонусы, роялти, налог на сверхприбы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25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Рентный налог на экспортируемую нефть и газовый конденс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пределение доли Республики Казахстан по разделу продук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оля Республики Казахстан по разделу продукции определяется как суммарная стоимость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прибыльной продукци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, подлежащей разделу между Республикой Казахстан и недропользователем, за вычетом доли недропользователя в прибыльной продукц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оля недропользователя в прибыльной продукции определяется как наименьшее из процентных значений, соответствующих нижеследующим трем триггерам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R-фактор (показатель доходности) - отношение накопленных доходов недропользователя к накопленным расходам по проекту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внутренняя норма рентабельности (ВНР) подрядчика - ставка дисконтирования, при которой реальный чистый дисконтированный доход достигает своего нулевого значени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Р-фактор (ценовой коэффициент) - отношение дохода недропользователя к объему добычи за отчетный период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57200" y="1271520"/>
          <a:ext cx="8229600" cy="4858920"/>
        </p:xfrm>
        <a:graphic>
          <a:graphicData uri="http://schemas.openxmlformats.org/drawingml/2006/table">
            <a:tbl>
              <a:tblPr/>
              <a:tblGrid>
                <a:gridCol w="4051440"/>
                <a:gridCol w="4178160"/>
              </a:tblGrid>
              <a:tr h="147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1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Значение R-фактора (показателя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доходности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центное значение доли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недропользователя в прибыльной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дук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меньше или равно 1,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70 до 9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больше или равно 1,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250920" y="189000"/>
            <a:ext cx="856908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оцентные значения доли недропользователя в прибыльной продукции, соответствующие указанным пороговым значениям и необходимые для определения доли недропользователя в прибыльной продукции, устанавливаются в контракте о разделе продукции в следующих границ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1271520"/>
          <a:ext cx="8229600" cy="4858920"/>
        </p:xfrm>
        <a:graphic>
          <a:graphicData uri="http://schemas.openxmlformats.org/drawingml/2006/table">
            <a:tbl>
              <a:tblPr/>
              <a:tblGrid>
                <a:gridCol w="4043520"/>
                <a:gridCol w="4186080"/>
              </a:tblGrid>
              <a:tr h="147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Значение внутренней нормы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рентабельности (ВНР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центное значение доли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недропользователя в прибыльной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дук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менее или равно 12 процента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70 до 9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более или равно 20 процента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250920" y="189000"/>
            <a:ext cx="81374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оцентные значения доли недропользователя в прибыльной продукции, соответствующие указанным пороговым значениям и необходимые для определения доли недропользователя в прибыльной продукции, устанавливаются в контракте о разделе продукции в следующих границ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457200" y="1271520"/>
          <a:ext cx="8229600" cy="4858920"/>
        </p:xfrm>
        <a:graphic>
          <a:graphicData uri="http://schemas.openxmlformats.org/drawingml/2006/table">
            <a:tbl>
              <a:tblPr/>
              <a:tblGrid>
                <a:gridCol w="4043520"/>
                <a:gridCol w="4186080"/>
              </a:tblGrid>
              <a:tr h="127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начение P-фактора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ценового коэффициента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центное значение доли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недропользователя в прибыльной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продук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енее или равно 12 долларам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ША за 1 баррел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т 70 до 9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более или равно 27 долларам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ША за 1 баррел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10 процен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250920" y="189000"/>
            <a:ext cx="81374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оцентные значения доли недропользователя в прибыльной продукции, соответствующие указанным пороговым значениям и необходимые для определения доли недропользователя в прибыльной продукции, устанавливаются в контракте о разделе продукции в следующих границ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64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озмещаемые затрат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озмещаемые затраты - обоснованные и документально подтвержденные затраты недропользователя, фактически произведенные им при выполнении работ в рамках заключенного контракта о разделе продукции в соответствии с программой работ и бюджетам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озмещаемые затраты недропользователя уменьшаются на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сумму операционных доходов, связанных с получением арендной платы за сдачу в аренду имущества, созданного либо приобретенного по контракту, за вычетом затрат, связанных с их получением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сумму прочих доходов (неустойки (штрафа, пени) и других), полученных от деятельности в рамках контракт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озмещение затрат недропользователю осуществляется с момента начала пробной эксплуатации и (или) добычи полезных ископаемых в коммерческих в размере, не превышающем предельную долю компенсационной продукц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 состав возмещаемых затрат включаются следующие затраты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произведенные недропользователем до вступления в силу контракта, в том числе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на подготовку и разработку технико - экономического обоснования на стадии, предшествующей заключению контракта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на оценку и разведку, произведенные до вступления в силу контракта и непосредственно связанные с его исполнением, которые должны быть отражены в смете затрат недропользователя на первый год работ по контракту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фактически произведенные с даты вступления контракта в силу и в течение всего периода его действ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К затратам, не возмещаемым за счет компенсационной продукции, относятся следующие виды затрат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по уплате взноса на участие в конкурсе инвестиционных программ на получение права недропользования на условиях раздела продукц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по приобретению геологической информац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3) по статьям затрат в части их превышения, по которым соглашением установлены ограничения, в том числе административные расходы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4) по уплате платы за эмиссии в окружающую среду сверх установленных лимитов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5) связанные с реализацией принадлежащей недропользователю компенсационной продукции и доли прибыльной продукц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6) связанные с ревизией (аудитом) финансово - хозяйственной деятельности, осуществленной по требованию акционеров (учредителей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7) возникшие в связи с неисполнением или ненадлежащим исполнением недропользователем своих обязательств, установленных контрактом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8) связанные с оплатой стоимости путевок на экскурсии и путешестви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9) выплаты вознаграждения за кредит (заем) и использование заемных средств, а также комиссионные выплаты и другие расходы, связанные с привлечением и использованием заемных средств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0) убытки, причиненные вследствие аварий, допущенных по вине недропользователя, в результате несоблюдения технологий и техники безопасност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1) затраты по социальным проектам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2) расходы по добровольному страхованию работников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3) затраты, понесенные в связи с судебными разбирательствам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4) штрафы и пени, взимаемые государственными органами с недропользовател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5) затраты, связанные с оплатой расходов на личное потребление работников, не предусмотренное законодательством Республики Казахстан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6) разовые фиксированные платежи за пользование недрами или бонусы коммерческого обнаружения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7) уплаченные налоги и обязательные платежи в бюджет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9) другие затраты, непосредственно не относящиеся к деятельности по контракт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ополнительный платеж недропользовате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лательщиками дополнительного платежа недропользователя, осуществляющего деятельность по контракту о разделе продукции, являются недропользователи, заключившие контракты о разделе продук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и исполнении контракта о разделе продукции доля поступлений государства в каждом налоговом периоде с момента начала добычи до момента возврата вложенных инвестиций не должна быть менее значения, установленного контрактом о разделе продукции в интервале от пяти до десяти процентов, и менее сорока процентов от объема продукции, полученной недропользователем в налоговом периоде, в последующих периодах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алоговым периодом по дополнительному платежу недропользователя, осуществляющего деятельность по контракту о разделе продукции, является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календарный год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1. Налоговый Кодекс РК устанавливает порядок исчисления и уплаты следующих налогов и специальных платежей недропользователей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17460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лога на сверхприбыль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17460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пециальных платежей недропользователей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бонусов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роялт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оли Республики Казахстан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по разделу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родук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ополнительного платежа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недропользователя,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осуществляющего деятельность по контракту о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разделе продук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788000" y="1916280"/>
            <a:ext cx="3384360" cy="3664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64000" y="5805360"/>
            <a:ext cx="2521080" cy="3668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64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3. Рентный налог на экспортируемую нефть и газовый конденса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413000"/>
            <a:ext cx="7921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лательщиками данного вида налога являются физические и юридические лица, реализующие на экспорт сырую нефть, газовый конденсат, за исключением недропользователей, заключивших контракты о разделе прод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ъектом обложения рентным налогом на экспортируемую сырую нефть, газовый конденсат является объем сырой нефти, газового конденсата, реализуемый на экспор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4508640"/>
            <a:ext cx="72723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логовый период –календарный меся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плата- не позднее 20 числа месяца следующего за налоговым период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логовая декларация – не позднее 20-числа месяца, следующего за налоговым период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Georgia"/>
              </a:rPr>
              <a:t>Ставки рентного налог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55640" y="1119240"/>
          <a:ext cx="7354800" cy="5580000"/>
        </p:xfrm>
        <a:graphic>
          <a:graphicData uri="http://schemas.openxmlformats.org/drawingml/2006/table">
            <a:tbl>
              <a:tblPr/>
              <a:tblGrid>
                <a:gridCol w="6335640"/>
                <a:gridCol w="101916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енее 19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19 до 20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0 до 21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1 до 22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2 до 23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23 до 24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………………………………………………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 38 до 40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олее 40 долларов США за барр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естовые вопросы по теме: «Недропользование»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1. Раздел налогообложения недропользователей регулирует особенности налогообложения деятельности по проведению операций по недропользованию, и устанавливает порядок исчисления и уплаты следующих налогов и специальных платежей недропользователей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налога на сверхприбыл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специальных платежей недропользователе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бонусов (подписного, коммерческого обнаружения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роялт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все ответы верн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2. Все контракты на недропользование до их подписания должны проходить обязательную налоговую экспертизу в порядке и сроки, определяем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Правительством Республики Казахстан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Президентом РК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Директором предприят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Налоговым органом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нет правильного ответ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3. Недропользователь, исходя из индивидуальных условий проведения недропользования, выплачивает следующие виды бонусов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подписно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коммерческого обнаруж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некоммерчески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личны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верны A) и B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4. Декларация по бонусу коммерческого обнаружения представляется недропользователем в налоговый орган по месту регистрации 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до 15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до 10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до 25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до 5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до 30 числа месяца, следующего за месяцем, в котором наступил срок уплат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5. Стартовые размеры подписных бонусов определяются Правительством Республики Казахстан на основе расчета с учето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A) количества постоянных издержек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B) объема полезных ископаемых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C) площади месторожд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D) экономической ценности месторожд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E) верны B) и D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Список рекомендуемой литератур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1. Кодекс Республики Казахстан от 12.06.2001 N 209-2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"О НАЛОГАХ И ДРУГИХ ОБЯЗАТЕЛЬНЫХ ПЛАТЕЖАХ В БЮДЖЕТ (НАЛОГОВЫЙ КОДЕКС)" с исправлениями и дополнениями от от 05.07.2008 N 66-4 (c введением в действие с 01.01.200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2. Юткина Т.Ф. «Налоги и нологообложение», 2001 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3. Карагусова Г. Т. «Налоги: сущность и практика», г. Алматы, 2004 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Модели налогового режима контрактов на недропользовани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алогообложение недропользователей разделяется на </a:t>
            </a:r>
            <a:r>
              <a:rPr b="1" lang="ru-RU" sz="2000" spc="-1" strike="noStrike" u="sng">
                <a:solidFill>
                  <a:srgbClr val="ff6600"/>
                </a:solidFill>
                <a:uFillTx/>
                <a:latin typeface="Georgia"/>
              </a:rPr>
              <a:t>две модел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1) Первая - предусматривает уплату недропользователем налогов и других обязательных платежей, установленных настоящим Кодексом, за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исключение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дол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Республики Казахстан по разделу продукц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2) Вторая - предусматривает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уплату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(передачу) недропользователем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доли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Республики Казахстан по разделу продукции, а также уплату всех видов налогов и других обязательных платежей в бюджет, установленных настоящим Кодексом, з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исключением: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рентного налога на экспортируемую сырую нефть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газовый  конденсат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акциза на сырую нефть, газовый конденсат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роялт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налога на сверхприбыль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земельного налога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- налога на имуществ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Налогообложение деятельности по проведению операций по недропользовани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1989000"/>
            <a:ext cx="828036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 1-й модели исчисление налоговых обязательств производится в соответствии с НК РК, действующим на момент появления обязательств по их упла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логовый режим, определенный в контрактах между Правительством РК отечественными или иностранными недропользователями заключенных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до 1 января 2009 г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, сохраняется и действует в течение всего установленного срока их действия, и м.б. скорректирована в связи с изменением налогового законодательства РК по соглашению стор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логовый режим по второй модели определяется только в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контракте о разделе продукци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заключенном в порядке, установленном законодательством Р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ccecff"/>
                </a:solidFill>
                <a:latin typeface="Georgia"/>
              </a:rPr>
              <a:t>2. </a:t>
            </a:r>
            <a:r>
              <a:rPr b="1" lang="en-US" sz="3200" spc="-1" strike="noStrike">
                <a:solidFill>
                  <a:srgbClr val="ccecff"/>
                </a:solidFill>
                <a:latin typeface="Georgia"/>
              </a:rPr>
              <a:t>Общие положения о бонусах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07588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1220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2204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Бонусы являются фиксированными платежами недропользовател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22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763640" y="3284640"/>
            <a:ext cx="5976360" cy="2890080"/>
            <a:chOff x="1763640" y="3284640"/>
            <a:chExt cx="5976360" cy="2890080"/>
          </a:xfrm>
        </p:grpSpPr>
        <p:cxnSp>
          <p:nvCxnSpPr>
            <p:cNvPr id="166" name="_s6154"/>
            <p:cNvCxnSpPr>
              <a:stCxn id="167" idx="0"/>
              <a:endCxn id="168" idx="2"/>
            </p:cNvCxnSpPr>
            <p:nvPr/>
          </p:nvCxnSpPr>
          <p:spPr>
            <a:xfrm flipV="1" rot="16200000">
              <a:off x="5266440" y="3924000"/>
              <a:ext cx="578520" cy="1609920"/>
            </a:xfrm>
            <a:prstGeom prst="bentConnector3">
              <a:avLst>
                <a:gd name="adj1" fmla="val 125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6153"/>
            <p:cNvCxnSpPr>
              <a:stCxn id="170" idx="0"/>
              <a:endCxn id="168" idx="2"/>
            </p:cNvCxnSpPr>
            <p:nvPr/>
          </p:nvCxnSpPr>
          <p:spPr>
            <a:xfrm flipH="1" flipV="1" rot="5400000">
              <a:off x="3657960" y="3924720"/>
              <a:ext cx="578520" cy="1609200"/>
            </a:xfrm>
            <a:prstGeom prst="bentConnector3">
              <a:avLst>
                <a:gd name="adj1" fmla="val 125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8" name="_s6149"/>
            <p:cNvSpPr/>
            <p:nvPr/>
          </p:nvSpPr>
          <p:spPr>
            <a:xfrm>
              <a:off x="3372120" y="3284640"/>
              <a:ext cx="2758320" cy="115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18787"/>
                </a:gs>
                <a:gs pos="100000">
                  <a:srgbClr val="33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b76"/>
                  </a:solidFill>
                  <a:latin typeface="Georgia"/>
                </a:rPr>
                <a:t>Бонусы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6150"/>
            <p:cNvSpPr/>
            <p:nvPr/>
          </p:nvSpPr>
          <p:spPr>
            <a:xfrm>
              <a:off x="1763640" y="5018760"/>
              <a:ext cx="2758320" cy="115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1878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b76"/>
                  </a:solidFill>
                  <a:latin typeface="Georgia"/>
                </a:rPr>
                <a:t>Подписной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_s6151"/>
            <p:cNvSpPr/>
            <p:nvPr/>
          </p:nvSpPr>
          <p:spPr>
            <a:xfrm>
              <a:off x="4981680" y="5018760"/>
              <a:ext cx="2758320" cy="115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1878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3b76"/>
                  </a:solidFill>
                  <a:latin typeface="Georgia"/>
                </a:rPr>
                <a:t>Коммерческого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3b76"/>
                  </a:solidFill>
                  <a:latin typeface="Georgia"/>
                </a:rPr>
                <a:t>обнаружения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Подписной бону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одписной бонус является разовым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фиксированным платежо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едропользователя </a:t>
            </a:r>
            <a:r>
              <a:rPr b="1" i="1" lang="ru-RU" sz="2000" spc="-1" strike="noStrike">
                <a:solidFill>
                  <a:srgbClr val="ff6600"/>
                </a:solidFill>
                <a:latin typeface="Georgia"/>
              </a:rPr>
              <a:t>за право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осуществления деятельности по недропользованию на контрактной территор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Стартовые размеры подписных бонусов определяются Правительством Республики Казахстан на основе расчета с учетом объема полезных ископаемых и экономической ценности месторожде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кончательный размер подписного бонуса устанавливается комиссией по результатам проведенного конкурса инвестиционных программ на получение права недропользования и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закрепляется в контракте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с учетом экономической ценности передаваемых для недропользования месторождений (контрактных территорий), но не ниже стартовых размеро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одписной бонус уплачивается в бюджет не поздне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6600"/>
                </a:solidFill>
                <a:latin typeface="Times New Roman"/>
              </a:rPr>
              <a:t>30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календарных дней с даты вступления контракта в сил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Бонус коммерческого обнаруж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 algn="ctr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Коммерческое обнаружение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- это запасы определенного вида полезных ископаемых, открытые в пределах контрактной территории, которые являются экономически эффективными для добыч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Бонус коммерческого обнаружения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- плата за каждое коммерческое обнаружение на контрактной территории, в том числе за обнаружение полезных ископаемых в ходе проведения дополнительной разведки месторождений, приводящей к увеличению первоначально установленных извлекаемых запас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Размер бонуса коммерческого обнаружения определяется исходя из объекта налогообложения, базы исчисления и ставк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Для исчисления размера бонуса коммерческого обнаружения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268280"/>
            <a:ext cx="8064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Объекто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налогообложения являетс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объем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утвержденных уполномоченным для этих целей гос.органом извлекаемых полезных ископаемых на месторожде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Базой исчисления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платежа являетс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стоимость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объема утвержденных извлекаемых полезных ископаемы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Бонус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коммерческого обнаружения уплачивается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по ставке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6600"/>
                </a:solidFill>
                <a:latin typeface="Georgia"/>
              </a:rPr>
              <a:t>0,1 %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от базы исчисления.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Срок уплаты: не позднее 90 дней со дня утверждения гос.органа объема извлекаемых запа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екларация: до 15-го числа месяца, следующего за месяцем, в которм наступил срок упла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6:10:07Z</dcterms:created>
  <dc:creator>TVMUR</dc:creator>
  <dc:description/>
  <dc:language>en-US</dc:language>
  <cp:lastModifiedBy>к</cp:lastModifiedBy>
  <dcterms:modified xsi:type="dcterms:W3CDTF">2011-01-31T15:58:40Z</dcterms:modified>
  <cp:revision>9</cp:revision>
  <dc:subject/>
  <dc:title>Слайд 1</dc:title>
</cp:coreProperties>
</file>